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F82-C02F-467F-82CE-762AE0F5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E00-080B-4CC7-A13A-CDCDDB2B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F3A-3E2A-4DAE-B754-15F0ECA4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AB8-7153-454F-9309-585478C0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9887-CA6E-4285-B238-02EC740D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B124-74B8-4C7D-B72C-AFBD3B1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1CC8-090B-4E56-9925-374766C2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41AC-DF5A-45B2-AFFA-6FDCEF84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9627-1856-4C2D-88D0-F4574C15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D05C-1ACA-43A9-B3FD-A451F164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6D44-6F34-4585-95B8-2AC47985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C94-80AE-4DBF-AF60-703A0EB3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C529-CEC9-4C7D-8AD4-E269121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2A4B-C8AC-46A8-85D8-342AC248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E88F-4350-4E0E-98A6-A0876B81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0C47-497A-4052-B9F1-0D6873B4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02AC-A814-4FA4-9181-57B034BD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30BC0-4279-486C-A297-D0BE1FC3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FF47-294C-4BD3-8A68-2A21A11E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9669-5DF6-4BBB-A0B7-05E608BC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46D8-9217-4A06-BD41-63F544E4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4B33-54F7-4B5B-ACA0-19CC45FF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201-E05E-4869-8DBF-A08E0FB5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305A-2141-4835-977F-B4B79B3D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2E9E3-D9CE-4D0B-BACD-C0C5BB9F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022D-1FCD-4996-8994-B15441E9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082E-6ABE-4136-B6EB-A97D57B4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9AC32-334E-4926-96C0-AD884D77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E4528-227F-4467-AB9B-A60DD96F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523B-1050-42C3-8747-7B2B2C0B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C44CB-6E34-4CD2-AAAC-3462C872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A644-299A-459D-9AC4-249E2AB5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63169-EC76-4DD3-A315-D86221F8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F95-68E8-4D39-B1D1-CFC94B51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D0CB-8089-4965-AF81-394F35C2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89691-F88D-45A9-8EBF-154DD3F5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6981-6C5B-4F02-A8DB-813F08AC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B8F68-5582-45B5-9D15-A76BA52F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BEA98-8FE6-4BAC-958B-6F402A6F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29A8F-112F-415E-9C66-D418FE2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51C5-80F6-4985-A0F1-B3A23041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35978-2342-4FEE-A10E-BF623B00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016FE-5F5C-4BBC-9D7F-EED5746B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BA832-F411-4928-B0B2-72C1E82A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2A1-8ED7-499C-9FD6-06EF9EE7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7639A-55A7-4604-BF1D-120271B2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30940-985E-4F96-A3F1-C6127384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66300-C1BF-4AE1-A645-1078EA5D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B8C39-874A-4067-9003-BA281343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2E2CF-EC15-4EC2-95D8-F4EAE7F4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B055E-7514-4DF5-BDBB-CCDABFFF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C4D9B-E89B-46AD-88CA-5C120E4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4349D-3496-4308-87BC-6862C041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10E5F-815E-43B7-A928-A32595C6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5C50E-2D3D-49CE-A70A-B679ECEA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A15-6F50-41EB-80FF-11C026FB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EE9D-056C-4394-8C6A-9AB3F007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4ED05-251C-4DA4-9CA2-15288568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62D2F-A481-46B8-8829-ABAEC04A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BD4A4-0D95-4326-883F-198ECCA2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8255D-151F-4AA4-94E5-191DA251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C06B0-907A-4C17-871B-1C313BC2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61857-8883-4789-AC87-0A878BA4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9FFFC-0755-42B7-90E2-7396C4F8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8ACF1-1905-4266-A616-4646C7AE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93C8E-8450-4982-91CF-ACC0E82B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BA3-1AE3-4811-97C8-36B5D3B8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72811-33D7-419E-8A0E-3189C29A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DF9FC-1ACA-4A36-A190-0A4C4CD0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D8600-2FC8-4A7E-B961-122EE7C4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0827D-9087-40AD-9606-A9A644D5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C74C0-E356-482B-8472-BEE28326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19ED7-EC2A-4792-AF4E-863B14D4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0D166-28D3-4902-8629-462AD96C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826D7-38C5-4F1A-A586-DCC8E2D0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6468F-8F84-4527-9A9D-0CB99B52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45342-8642-49C5-9175-9FF52A00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D1F-397E-4B80-97EC-9E1A3A9C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5E733-E5F1-4881-9991-3AD65C1E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D69EF-3F16-4114-878C-3482D244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37DF3-3974-455A-ABAF-C6E54E50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2B45D-BC4D-4AB6-94EA-60490C2E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4ACD2-FD73-4222-8E89-2A58CF21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B5D205-05FD-4B37-BD37-42A2C55F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1AF159-06A3-48E0-9205-A8C527DF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85FA70-4304-4A7F-941E-2D42F32F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229E03-8BB7-40FA-B07F-06A7B811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C1F04F-87D2-46AD-85E4-5A85FEA8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64A-CC03-4306-9BC8-2D095338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D70F20-A20F-49FE-9E79-D194F11F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56856B-FCDA-4EF6-BA9A-8E5F8CB1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464EA-487D-4632-8843-A51D153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DC9F2-8218-4E32-A67E-93162DDF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E5A855-6534-460D-A763-1228987D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CCFE6D-50D4-4138-BD67-27A122C2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66F98D-D23B-4BEF-8A68-AFE8C84A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C0D5-ECE9-4F35-A5A3-6A41F6B9C51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29DE-3397-43DF-87E8-E2BEEF628A8E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20FD-26FE-483D-8F8D-AFC12936D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FCE6-F0C4-4360-ABB1-9FE8928A9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B802-3118-4838-8FA5-87FE8DCA5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E3A2-3241-4CA1-92AD-957BEA4A8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3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3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A6A4-3A06-4C90-8641-6F3EBD5B81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9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9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0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0E5C-7D28-413B-A2D9-2DEC746BC6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http://web.mit.edu/invent/i-archive.html" TargetMode="External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990720" y="1523880"/>
            <a:ext cx="74674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ASEBALL</a:t>
            </a:r>
            <a:endParaRPr b="0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9" name=""/>
          <p:cNvSpPr/>
          <p:nvPr/>
        </p:nvSpPr>
        <p:spPr>
          <a:xfrm>
            <a:off x="5931720" y="4989600"/>
            <a:ext cx="31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ichael Dukelow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onday, September 27, 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# 1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19360" y="5289480"/>
            <a:ext cx="395280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Music: Free Play Music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Beach Fun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Monday, October 04, 2010,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Tahoma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381240" cy="36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vention: Baseball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say baseball was invented by Abner Doubleday, but the real way was invented by Alexander J. Cartwr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ever, in Cartwright’s rule of play you could “plug” which means a ball fielded on one bounce was an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game there were no helmets, metal bats, batting gloves, and fences and you had to pitch underh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ame was won by the first team to get 21 “aces” (runs) in however many inn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ever major league team was the Cincinnati Red Stock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baseball has traveled around the world for little kids and of course more adul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material had been made so players could increase their level of pl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ball has continued to embrace even more fans and play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ventor: Alexander J. Cartwrigh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born in in 182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ied in 189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" descr="Cartwright"/>
          <p:cNvPicPr/>
          <p:nvPr/>
        </p:nvPicPr>
        <p:blipFill>
          <a:blip r:embed="rId1"/>
          <a:stretch/>
        </p:blipFill>
        <p:spPr>
          <a:xfrm>
            <a:off x="457200" y="304920"/>
            <a:ext cx="6553080" cy="27432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7010280" y="457200"/>
            <a:ext cx="2133720" cy="556272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4495680" cy="281916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4"/>
          <a:stretch/>
        </p:blipFill>
        <p:spPr>
          <a:xfrm>
            <a:off x="4876920" y="3048120"/>
            <a:ext cx="2133360" cy="281916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1649160" y="6051600"/>
            <a:ext cx="60188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Lemelson Mit, Alexander Cartwright Baseball,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10/4/10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Tahoma"/>
                <a:hlinkClick r:id="rId5"/>
              </a:rPr>
              <a:t>http://web.mit.edu/invent/i-archive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6Z</dcterms:created>
  <dc:creator>install</dc:creator>
  <dc:description/>
  <dc:language>en-US</dc:language>
  <cp:lastModifiedBy>install</cp:lastModifiedBy>
  <dcterms:modified xsi:type="dcterms:W3CDTF">2010-10-13T18:03:31Z</dcterms:modified>
  <cp:revision>12</cp:revision>
  <dc:subject/>
  <dc:title>Slide 1</dc:title>
</cp:coreProperties>
</file>